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8140-4ED9-4264-9316-A57BC713B1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mnitel: Italienischer Mobilfunk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fostrada: Italienischer Intenrnet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range: Britischer Mobilfunk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Arcor: Deutscher Festnetzdienst- und Festnetztelekommunikations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Passo: Anbieter für Verkehrsfüh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egetel: Französischer Funk- und Festnetz-Anbe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ele.ring: Österreichischer Internet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.tel.o: Call by Call Anbieter in Deutsch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SIS Multimedia Net: Deutscher Internet 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rmany.net: Deutscher Internet 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Eurokom: Internationaler Funk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D6C-C0E2-466F-BC76-B5EA24B4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808-BDE2-440C-A544-33B66B40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96D-F244-4812-9120-67D56F69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694-12E5-4A7B-8408-8037E7F6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7CE-C2D5-450D-8D00-BF2B54DF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727-558B-4284-9C68-7B8E3FC6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1D50-2F00-4918-8ED2-F214D29F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194-5A6A-45ED-B0B2-E4517D46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018-65F4-4A45-9405-3E730197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2CD-3F7B-43E1-A652-D5EC0B5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02C-2E39-4CF2-A91D-7A9DB5B1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F97-66D9-4F32-B894-53EEDC43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ECD1-5EE6-415B-A804-900D173124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week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320040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nnesmann%20logo" descr=""/>
          <p:cNvPicPr/>
          <p:nvPr/>
        </p:nvPicPr>
        <p:blipFill>
          <a:blip r:embed="rId2"/>
          <a:stretch/>
        </p:blipFill>
        <p:spPr>
          <a:xfrm>
            <a:off x="4572000" y="4257720"/>
            <a:ext cx="4267080" cy="1990800"/>
          </a:xfrm>
          <a:prstGeom prst="rect">
            <a:avLst/>
          </a:prstGeom>
          <a:ln w="0">
            <a:noFill/>
          </a:ln>
        </p:spPr>
      </p:pic>
      <p:pic>
        <p:nvPicPr>
          <p:cNvPr id="51" name="vodafoneAirTouch%20logo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267080" cy="160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59436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y Christopher Houben EBS 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4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begins an immense publicity campaign,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reacts with its own campa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3. Dec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repeats its offer of giving 53,7 own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eadline for this offer is set to 7. Februar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11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The „Wall Street Journal“ reports about a possible joint-venture between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Viv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8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onfirms talks about acquisitions within AOL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30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Vivendi give notice about a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Febr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nounces to increase its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 Febr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EO Klaus Esser announces the friendly takeover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AirTo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final share exchange rate was set to 58,96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, which is the equivalent of 380 billion 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whole advertising campaign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ost about 50 million 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ectors Engineering and Automotive will be deme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recent takeover of Orange by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has to be un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french company Vivendi will recieve half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egetel shares (which is 7,5%) as promised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800" y="53316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What i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as supposed to have the smaller growth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as supposed to have the better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0% of Western Europe‘s market volume was supposed to be in the hands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n the long run,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ould have grown faster and would have had the better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stock capitalization will be worth 700 billion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new company will be the 4. largest in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t will serve 42 million mobile phone customers in 25 differen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ild%20connecting%20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582640" cy="2822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Headquaters in Newbury/Great Britain and Düsseldorf/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Internet and the conventional telephone network activities will be coordinated in Düsseldorf, the rest in Newb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Until now 88,91% Mannesmann shareholders accepted Vodafone‘s 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map%20-%20from%20Barrett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72400" cy="5425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 and its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20" y="6324480"/>
            <a:ext cx="36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urce: Vodafone Presentation of 23. Dec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Future Pl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is constantly looking for opportunities to enlarge and/or cooperate with other foreign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ill concentrate more on the mobile phon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ill found a new internet company with Viv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99072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What do you think of „hostile“ takeover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katz+mus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3248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two companies and its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shareholder stucture and the 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takeover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consequences and „What if..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new company and its future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as the takeover of the traditional </a:t>
            </a:r>
            <a:r>
              <a:rPr b="0" lang="de-DE" sz="32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company by the relatively young </a:t>
            </a:r>
            <a:r>
              <a:rPr b="0" lang="de-DE" sz="32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AirTouch justifi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ll there only be a couple of mega transnationals ruling the whole future business worl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ewsweek‘s Internet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newsweek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ternet-Archiv of Wirtschaftswo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 www.wiwo.d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rtschaftsmagazin „Börse-Onlin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rliner Morgen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üddeutsche Z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Histor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890, Foundation of the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„Deutsch-Österreichische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Mannesmannröhren-Werke AG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“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n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70, Outsourcing and investment in new areas such a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 1990: Establishment of Germany‘s first private mobile phone network D2: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 Mobilfunk Gm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om 1997 on, concentration on the Telecommunication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annesmann%20logo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2286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00"/>
                </a:solidFill>
                <a:latin typeface="Times New Roman"/>
              </a:rPr>
              <a:t>Mannesmann‘s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 Telekommuni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lecom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4443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88600" y="6031080"/>
            <a:ext cx="41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urce: Mannesmann Homepage www.mannesmann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,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beg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s a division of Racal Electronics P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, under the name of Racal 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anuary 1985, „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“ is launched as UK‘s first cellular mobile teleph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om 1993 on, Formation of partnerships all over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30 June 1999,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merges with the U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irTouch Communications Inc.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d since it is known as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vodafoneAirTouch%20logo" descr=""/>
          <p:cNvPicPr/>
          <p:nvPr/>
        </p:nvPicPr>
        <p:blipFill>
          <a:blip r:embed="rId2"/>
          <a:stretch/>
        </p:blipFill>
        <p:spPr>
          <a:xfrm>
            <a:off x="5029200" y="457200"/>
            <a:ext cx="2425680" cy="914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Histor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3805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00"/>
                </a:solidFill>
                <a:latin typeface="Times New Roman"/>
              </a:rPr>
              <a:t>Vodafone AirTouch‘s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 Telekommuni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ertig%20fertig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714996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56960" y="6248520"/>
            <a:ext cx="35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Source: Berliner Morgenpost 5. Februar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3504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rivat: 3,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nks:85,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nvestmenttrusts and –fonds: 1,0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Companies: 2,6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thers: 6,6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2160" y="152352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Hutchison Whampoa: 10,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reat Britain / USA Institutions: 32,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erman Institutions: 11,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taff: ~7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ocal and foreign privat shareholders: 32,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ther foreign shareholders: 5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hareholder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2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ered the British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hat can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do better than the two companies together?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ost sav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Rea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90760" y="152352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will expand much faster alone and has the better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is worth much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he merger brings many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2. Octo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don newspaper „Times“ reported about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irTouch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ntions on taking over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120 billion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4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ers 43,7 own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er is enlarged to 53,7 own shares (= 242 billion 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23:11:09Z</dcterms:created>
  <dc:creator>Stoffel</dc:creator>
  <dc:description/>
  <dc:language>en-US</dc:language>
  <cp:lastModifiedBy>Stoffel</cp:lastModifiedBy>
  <cp:lastPrinted>2000-03-02T11:29:24Z</cp:lastPrinted>
  <dcterms:modified xsi:type="dcterms:W3CDTF">2000-03-22T22:06:56Z</dcterms:modified>
  <cp:revision>22</cp:revision>
  <dc:subject/>
  <dc:title>The History of Mannesmann</dc:title>
</cp:coreProperties>
</file>